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3C13-B45A-42C5-9AD5-C05DDCA6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FF8B-6455-493A-9F00-4971A06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733E-BE47-4F4B-9397-CFC538CD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C650-407D-4E23-A641-B0F952DE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D27-690F-4EB0-91F4-B5D48F7D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6021-ABB4-4AD0-BC85-97CFFD1C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361-2F3E-4563-A568-36251AD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EF40-4D33-4139-9EF9-3D10A40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53D1-AA33-4AF9-B2FF-5FBB4D7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4805-89AA-46BE-84F8-970E5BB2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17F7-5190-4006-9418-7F2EF15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1CE6-6770-4893-A0A3-32FD50E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92F-DD32-488C-9EDE-5D3537A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0B15-547E-48B5-BAE9-D2FB3BC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31E7-2D8F-4BFA-BB76-3AFA2C33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7D98-9F4B-4413-88EB-49C9D25B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198-AFF9-4BB9-B38F-D112E05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02E3-EF7C-4950-A258-F70BC73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0252-8E94-445F-B5D7-D3E5B869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5516-4003-41FF-8053-AA997DDF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533E-EE8F-4C2E-B0FA-11EE2AD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4D4B-A33F-4B69-944B-642C614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7201-7DDA-483D-9790-BDB5C1C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F05A-D7C9-4D44-B54F-AFE1FC7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74C-75C2-46CD-94B6-83BA2AA7C5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6A0-9CC6-4FE7-A66E-69FBE6B92A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khmatova.org/articles/zhirmunskiy6.htm" TargetMode="External"/><Relationship Id="rId2" Type="http://schemas.openxmlformats.org/officeDocument/2006/relationships/hyperlink" Target="http://shalamov.ru/library/21/52.html" TargetMode="External"/><Relationship Id="rId3" Type="http://schemas.openxmlformats.org/officeDocument/2006/relationships/hyperlink" Target="http://www.litera.ru/stixiya/articles/457.html" TargetMode="External"/><Relationship Id="rId4" Type="http://schemas.openxmlformats.org/officeDocument/2006/relationships/hyperlink" Target="http://www.kostyor.ru/biography/?n=4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Зрелая лирика в творчестве Анны Андреевны Ахматовой (1889-196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тудентка филологического факультета 341 группа Савина М.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ыктывкар 2010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Основной вопрос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се ли люди любят одинако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Проблемные вопрос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чем заключается специфика зрелой лирики Ахматов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 каким писателем сближается творчество Ахматовой в зрелый период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мыслы Ахматовой в зрелом творчеств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акие темы раскрывает Ахматова в большей степен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каких жанрах, новых для себя, пишет Ахмато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Методические задач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аскрыть характер героини любовной лирики Ахматовой, ее страстность, независимость, чувство собственного достоинства и глубину переживан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мочь почувствовать самобытность поэтического мира Ахматовой, осознать связь ее поэзии с проблемами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Результаты исследова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Литературная гости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очи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икто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руглый ст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Подтемы в проект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чание при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прессии, аресты  и гонения в 40-60 х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ворчество Блока и его знакомство с Ахмато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Курс будет длитьс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            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7 ч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Этапы проведения проект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ыбор или формулировани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иск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амостоятельная работа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щита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Информационные ресурс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Учебники по литературе за 11 кла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итературные журнал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Энциклопед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етодические пособ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Интернет сай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akhmatova.org/articles/zhirmunskiy6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shalamov.ru/library/21/52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litera.ru/stixiya/articles/457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http://www.kostyor.ru/biography/?n=4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http://www.russofile.ru/articles/article_81.ph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10-05-05T12:42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